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76C-E8A5-41B5-AE4C-CCEBAFC7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FF3-5CA6-41A7-A996-9FE271BF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590-4481-4DBD-AA18-E02FCC86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06E-DDCD-412E-915F-C4FAB93C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DD09-1969-4EF9-A2AF-F237FEC9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0552-5678-49A3-AA6E-F502B177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28FB-4E3E-4DC8-800B-B2AD24F3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A202-53AC-4DA9-8F96-3C542D89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7267-E9B4-4AFF-B475-53866030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4ACB-B26E-41B4-99CE-8AD3D22A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B77A-013C-4D25-8EC8-4389D71A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075-75BB-44F3-A30A-CC0C7007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30BC-B080-4615-AF7F-EE7F9A07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12F1-8BDA-40CB-ABB4-2520C734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37A4-0961-4A99-8789-1986E6E2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7D24-FADE-4DAC-8C62-4EF70422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3D3C-8D67-486A-90B0-83088D5E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371-9E5E-46C5-8C53-C7C4C4EC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550-A5CB-402A-9A97-E5C027E8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EAA-E0A5-4173-ACD8-F14E7DF4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2B3-6F7E-4B8F-BEFD-9F40F6D0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C4C-6760-4975-AB84-F545A58A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DFC-E110-4107-98F9-A2B3846C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06F-53FE-4A8C-BF75-969526E8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6F8A-0BEB-435C-8871-E75A47262F93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C1E7-B6FF-4666-BA93-86554A4B2077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-79200" y="1249200"/>
            <a:ext cx="9461160" cy="4005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Hacer / Y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Hag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ir / Tú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e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Traer / Tú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Trae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r / Tú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Hacer / Tú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Hace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128520" y="30240"/>
            <a:ext cx="9021960" cy="201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457200" y="1600200"/>
          <a:ext cx="8229600" cy="4419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</a:tr>
            </a:tbl>
          </a:graphicData>
        </a:graphic>
      </p:graphicFrame>
      <p:sp>
        <p:nvSpPr>
          <p:cNvPr id="86" name="TextBox 4"/>
          <p:cNvSpPr/>
          <p:nvPr/>
        </p:nvSpPr>
        <p:spPr>
          <a:xfrm>
            <a:off x="914400" y="18288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lg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990720" y="34290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609480" y="49528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4572000" y="17524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sotros(as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l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4724280" y="35053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l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4952880" y="472428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(as), Uds. Sa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1760" y="10663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ir / Emanuel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e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r / Usted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760" y="609480"/>
            <a:ext cx="79246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5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ir </a:t>
            </a:r>
            <a:r>
              <a:rPr b="1" lang="en-US" sz="101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01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25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Century Gothic"/>
              </a:rPr>
              <a:t>El pasajero y yo</a:t>
            </a:r>
            <a:endParaRPr b="0" lang="en-US" sz="10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imo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Traer / Nosotro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Traemo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617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r / Mis Padres y y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mo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48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600200"/>
          <a:ext cx="8229600" cy="4419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</a:tr>
            </a:tbl>
          </a:graphicData>
        </a:graphic>
      </p:graphicFrame>
      <p:sp>
        <p:nvSpPr>
          <p:cNvPr id="94" name="TextBox 4"/>
          <p:cNvSpPr/>
          <p:nvPr/>
        </p:nvSpPr>
        <p:spPr>
          <a:xfrm>
            <a:off x="914400" y="18288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g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990720" y="34290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609480" y="472428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648320" y="17524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sotros(as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c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724280" y="327672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(a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c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4952880" y="472428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(as), Uds. hac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Hacer / Nosotro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Hacemo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5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Century Gothic"/>
              </a:rPr>
              <a:t>Salir / </a:t>
            </a:r>
            <a:endParaRPr b="0" lang="en-US" sz="101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25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Century Gothic"/>
              </a:rPr>
              <a:t>Los asistentes del vuelo</a:t>
            </a:r>
            <a:endParaRPr b="0" lang="en-US" sz="10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en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r / Los piloto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n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Traer / Los piloto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Traen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Hacer / Ustede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Hacen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ir / Y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g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Traer / Y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Traig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r / Y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g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20:24:01Z</dcterms:created>
  <dc:creator>whitecadm</dc:creator>
  <dc:description/>
  <dc:language>en-US</dc:language>
  <cp:lastModifiedBy>490teacher</cp:lastModifiedBy>
  <dcterms:modified xsi:type="dcterms:W3CDTF">2012-02-09T23:57:40Z</dcterms:modified>
  <cp:revision>4</cp:revision>
  <dc:subject/>
  <dc:title>Slide 1</dc:title>
</cp:coreProperties>
</file>